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type.wav" ContentType="audio/x-wav"/>
  <Override PartName="/ppt/media/image8.gif" ContentType="image/gif"/>
  <Override PartName="/ppt/media/image18.jpeg" ContentType="image/jpeg"/>
  <Override PartName="/ppt/media/image10.jpeg" ContentType="image/jpeg"/>
  <Override PartName="/ppt/media/image5.jpeg" ContentType="image/jpeg"/>
  <Override PartName="/ppt/media/image11.jpeg" ContentType="image/jpeg"/>
  <Override PartName="/ppt/media/image6.jpeg" ContentType="image/jpeg"/>
  <Override PartName="/ppt/media/image4.gif" ContentType="image/gif"/>
  <Override PartName="/ppt/media/image7.png" ContentType="image/png"/>
  <Override PartName="/ppt/media/image22.jpeg" ContentType="image/jpeg"/>
  <Override PartName="/ppt/media/click.wav" ContentType="audio/x-wav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chimes.wav" ContentType="audio/x-wav"/>
  <Override PartName="/ppt/media/image14.jpeg" ContentType="image/jpeg"/>
  <Override PartName="/ppt/media/image13.jpeg" ContentType="image/jpeg"/>
  <Override PartName="/ppt/media/image12.jpeg" ContentType="image/jpeg"/>
  <Override PartName="/ppt/media/image1.png" ContentType="image/png"/>
  <Override PartName="/ppt/media/image2.jpeg" ContentType="image/jpeg"/>
  <Override PartName="/ppt/media/image3.gif" ContentType="image/gi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CE54-C581-4B5E-8894-6D3D72DB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7A37-1E01-4459-B4F6-4DE173429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6C4D-DEEE-48BD-9669-A927662B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234A-AA76-4E64-BADC-51A63892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D371-E3A0-4114-9AB3-F6AFF92B0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B44E8-AA98-459B-B0EF-0BC1D1752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41DED-B594-435B-8FED-67F287D9C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17EE4-B00E-4E4A-8013-AA424EC98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0521-0DBC-480B-AFAB-9F472DF3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0657-C0DB-49C9-AA7F-A132D4A08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4DEA-EF4F-4045-A67A-8FB2CE7D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2F67-8EF7-45CA-BF6B-C7D06C43E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9AF9-684D-4157-AB08-CA70BC960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B0850-2DC2-4D01-847A-E12FF99C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40D2D-0480-493E-9A7E-BB454FF16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26EB6-0C74-4E4C-8472-0484561C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7316D-46D2-4F88-B408-7F74094ED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894C1-599C-4701-ABA0-5DD41CE90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E8D08-71BB-4CED-9C94-8B02EDD8A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EA644E-6566-440D-88B9-B8821CE98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9E8CEA-7A4C-461B-B990-E7808604C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E7C95-0504-424B-B8A6-9A8C7C831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65F8-0EC8-4244-86BC-32B970866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31F2B6-0A8D-48BE-8786-071A12D03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58AE05-CEF0-4D2F-9237-3186DA08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004DD-73A4-456B-AA65-09DA9545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99E221-7050-4740-8EEC-B7DD4CD49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D49014-421D-4BF5-8C45-2B5ED6A3A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17CB97-CBD6-4A1F-B24F-6458D74454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7AD22-5AA5-4A4E-8DBC-647D3B4CC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E55AE6-1668-42D3-A5EE-FAF1D6ABC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1B1615-EB80-4620-AB9A-381AD97C3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1979C2-91C4-4479-8D9C-439A8C20B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BE79A-7138-4737-A8AC-E300AD156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54E316-04C8-4059-9A75-D31FC165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71906-C65A-4284-9D7D-81387249A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78192-792D-4856-8E4E-8DDD19929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83202-BA2D-4313-8C2C-30C08C550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F0921-996B-489E-9CF3-D504FF41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A55A0-6105-4409-8811-E7B9D7B2A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5E4FFC-FF7A-40D0-B1FC-6A3C5E2C8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92D1B-765D-4E62-BC1A-B462DBEA0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DC4656-8B9E-489B-A3DA-4CFB4E416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E69DC8-918A-43EF-B4A7-1B64F0770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DC2A-6B8B-41F0-B902-B62411268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348BF8-C4BD-4A22-A57E-EDD8D700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B419E-B6C0-4070-8328-5C502FD1E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776937-48CC-4494-B98A-33660269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44741C-60A2-4778-B937-730732AD6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0CE16-8663-4E56-A617-1AFC92250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93DBF-F850-466F-BA87-F21F01CDF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32160-80A8-497E-B42F-C9DFA27DA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7E35A8-8427-41C3-A121-F7CB27F83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3F13CA-5946-40C8-9344-CE7637A2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008726-12EE-4267-86EB-630B015AD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C415-E715-4793-AE52-6494738AA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9C0CB-365D-4C41-9EC6-8868B0C1B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F1B9B4-27E6-4450-A74E-36455C8E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A6E373-126E-4266-9E42-34736334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7DC84F-C366-4863-AA78-DCBCC492B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CD47A2-92C4-4448-A761-C70C27839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EFF583-307C-4926-8399-E83710306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4A1183-4623-4349-8E72-4B900459A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BA84A4-6D81-4D0C-8B17-D494DA72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566552-033A-41F9-83A5-93EAC815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00AC1A-2D6E-49F7-BCCB-1DB1B23C6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97B3-711B-4E1D-B058-29867F193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54D279-454A-475C-AADF-F505F1C01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F55FD4-075A-4B71-9C5E-4709F8AA2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D53DF5-5F4C-4ABE-AC0B-377AEEFA1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E4E1B7-3230-4379-BDA5-33615FF02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564B896-FCEE-49C2-A0A4-3FB69852F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28D0B55-B50D-4121-A7AF-8B1E4C74A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DFFFE0-12AC-42B9-87F1-887A5F72F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C91F8E-421A-43E0-9317-DF5D1434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7A9858-D658-402D-9474-086BA27C6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AAFE56F-F601-49F4-A4CA-18DCA69D2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10641-9187-4F11-BA5B-5B330E16A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9261408-12CA-46A3-A54A-35A031003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0856B9E-2122-4AF4-8FC0-C3A12A89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8456A8-DA77-436E-8030-8228815B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900CDB-A71E-4ACE-80A6-37FFAB04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8E2C9B-6AA4-4A50-94DD-81464A940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329A6E-5CD5-4D20-A080-D6A57683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FDC96-7A63-456A-87FD-FED1FF5AE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8B2FB8-0BE5-4B86-9BDB-9F9BA7CE9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EB140F-BCEC-4115-B8FA-08204C0B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0682F-1F34-4024-A87E-712CD479B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8AD4-A66C-4D19-B4AF-E8F9B7A60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B82998-10C8-4B78-BC55-AD8884813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F6E67-88BF-4980-B5F4-2248A6F8A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B07A0D-A80D-46B9-971B-01894C24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8B69BE-A4F9-4AEA-914C-D654DDB4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61723F-F420-4A2F-AC2C-43AFF88F8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B0262D-4195-4324-8715-F4FE65D5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4F13D3-DCE4-4D50-8562-3629BA196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8736D-3DCF-4CB9-A0A8-2AA53DE40B4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79FEF-4242-4824-84E0-2CAF0F93CE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"/>
          <p:cNvGrpSpPr/>
          <p:nvPr/>
        </p:nvGrpSpPr>
        <p:grpSpPr>
          <a:xfrm>
            <a:off x="1071360" y="304920"/>
            <a:ext cx="7615440" cy="1105920"/>
            <a:chOff x="1071360" y="304920"/>
            <a:chExt cx="7615440" cy="1105920"/>
          </a:xfrm>
        </p:grpSpPr>
        <p:sp>
          <p:nvSpPr>
            <p:cNvPr id="83" name=""/>
            <p:cNvSpPr/>
            <p:nvPr/>
          </p:nvSpPr>
          <p:spPr>
            <a:xfrm flipH="1">
              <a:off x="4868280" y="304920"/>
              <a:ext cx="11048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583760" y="304920"/>
              <a:ext cx="1103040" cy="11044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071000" y="30600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632412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2358360" y="304920"/>
              <a:ext cx="1103400" cy="11044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C727C-6BDB-4A6F-BC9B-796B57F3DC16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"/>
          <p:cNvGrpSpPr/>
          <p:nvPr/>
        </p:nvGrpSpPr>
        <p:grpSpPr>
          <a:xfrm>
            <a:off x="1658520" y="1600200"/>
            <a:ext cx="6837840" cy="3200400"/>
            <a:chOff x="1658520" y="1600200"/>
            <a:chExt cx="6837840" cy="3200400"/>
          </a:xfrm>
        </p:grpSpPr>
        <p:sp>
          <p:nvSpPr>
            <p:cNvPr id="130" name=""/>
            <p:cNvSpPr/>
            <p:nvPr/>
          </p:nvSpPr>
          <p:spPr>
            <a:xfrm flipH="1">
              <a:off x="697212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3390120" y="160020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339012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6972120" y="327672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6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04172-92F8-47C8-87F0-819A2407115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8550-42CC-45EF-B1A6-740CD9F4C84D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B85F4-28EE-47FB-9A13-EF5401D86895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ftr" idx="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ldNum" idx="2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9E4E9-DD83-437D-BE33-CD3D222C7534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26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31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1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315" name=""/>
              <p:cNvSpPr/>
              <p:nvPr/>
            </p:nvSpPr>
            <p:spPr>
              <a:xfrm>
                <a:off x="573120" y="3582720"/>
                <a:ext cx="576360" cy="6415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141560" y="3582720"/>
                <a:ext cx="583920" cy="6415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5" name="PlaceHolder 1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ACC47-374C-4AEC-83F9-4AC0B2E05EDF}" type="slidenum">
              <a:rPr b="0" lang="zh-CN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4.gif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audio" Target="file:///tmp/home/.config/libreoffice/4/user/gallery/type.wav" TargetMode="External"/><Relationship Id="rId7" Type="http://schemas.microsoft.com/office/2007/relationships/media" Target="file:///tmp/home/.config/libreoffice/4/user/gallery/type.wav" TargetMode="External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8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3.gi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22.jpe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audio" Target="../media/click.wav"/><Relationship Id="rId4" Type="http://schemas.openxmlformats.org/officeDocument/2006/relationships/audio" Target="../media/type.wav"/><Relationship Id="rId5" Type="http://schemas.openxmlformats.org/officeDocument/2006/relationships/audio" Target="../media/click.wav"/><Relationship Id="rId6" Type="http://schemas.openxmlformats.org/officeDocument/2006/relationships/audio" Target="../media/type.wav"/><Relationship Id="rId7" Type="http://schemas.openxmlformats.org/officeDocument/2006/relationships/audio" Target="../media/click.wav"/><Relationship Id="rId8" Type="http://schemas.openxmlformats.org/officeDocument/2006/relationships/audio" Target="../media/type.wav"/><Relationship Id="rId9" Type="http://schemas.openxmlformats.org/officeDocument/2006/relationships/audio" Target="../media/click.wav"/><Relationship Id="rId10" Type="http://schemas.openxmlformats.org/officeDocument/2006/relationships/audio" Target="../media/type.wav"/><Relationship Id="rId11" Type="http://schemas.openxmlformats.org/officeDocument/2006/relationships/audio" Target="../media/click.wav"/><Relationship Id="rId12" Type="http://schemas.openxmlformats.org/officeDocument/2006/relationships/audio" Target="../media/type.wav"/><Relationship Id="rId1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png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8.gif"/><Relationship Id="rId7" Type="http://schemas.openxmlformats.org/officeDocument/2006/relationships/image" Target="../media/image14.jpeg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click.wav"/><Relationship Id="rId11" Type="http://schemas.openxmlformats.org/officeDocument/2006/relationships/audio" Target="../media/click.wav"/><Relationship Id="rId12" Type="http://schemas.openxmlformats.org/officeDocument/2006/relationships/audio" Target="../media/click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type.wav"/><Relationship Id="rId16" Type="http://schemas.openxmlformats.org/officeDocument/2006/relationships/audio" Target="../media/type.wav"/><Relationship Id="rId17" Type="http://schemas.openxmlformats.org/officeDocument/2006/relationships/audio" Target="../media/type.wav"/><Relationship Id="rId18" Type="http://schemas.openxmlformats.org/officeDocument/2006/relationships/audio" Target="../media/type.wav"/><Relationship Id="rId19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3.gi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gif"/><Relationship Id="rId3" Type="http://schemas.openxmlformats.org/officeDocument/2006/relationships/image" Target="../media/image3.gif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8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6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609040" y="6273720"/>
            <a:ext cx="500040" cy="54000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7308720" y="189000"/>
            <a:ext cx="1440000" cy="1439640"/>
          </a:xfrm>
          <a:prstGeom prst="rect">
            <a:avLst/>
          </a:prstGeom>
          <a:ln w="0">
            <a:noFill/>
          </a:ln>
        </p:spPr>
      </p:pic>
      <p:pic>
        <p:nvPicPr>
          <p:cNvPr id="368" name="" descr=""/>
          <p:cNvPicPr/>
          <p:nvPr/>
        </p:nvPicPr>
        <p:blipFill>
          <a:blip r:embed="rId4"/>
          <a:stretch/>
        </p:blipFill>
        <p:spPr>
          <a:xfrm>
            <a:off x="1403280" y="1916280"/>
            <a:ext cx="5410440" cy="2695320"/>
          </a:xfrm>
          <a:prstGeom prst="rect">
            <a:avLst/>
          </a:prstGeom>
          <a:ln w="0">
            <a:noFill/>
          </a:ln>
        </p:spPr>
      </p:pic>
      <p:pic>
        <p:nvPicPr>
          <p:cNvPr id="369" name="" descr=""/>
          <p:cNvPicPr/>
          <p:nvPr/>
        </p:nvPicPr>
        <p:blipFill>
          <a:blip r:embed="rId5"/>
          <a:stretch/>
        </p:blipFill>
        <p:spPr>
          <a:xfrm>
            <a:off x="900000" y="620640"/>
            <a:ext cx="5762880" cy="838440"/>
          </a:xfrm>
          <a:prstGeom prst="rect">
            <a:avLst/>
          </a:prstGeom>
          <a:ln w="0">
            <a:noFill/>
          </a:ln>
        </p:spPr>
      </p:pic>
      <p:pic>
        <p:nvPicPr>
          <p:cNvPr id="370" name="" descr="">
            <a:hlinkClick r:id="" action="ppaction://media"/>
          </p:cNvPr>
          <p:cNvPicPr/>
          <p:nvPr>
            <a:audioFile r:link="rId6"/>
            <p:extLst>
              <p:ext uri="{DAA4B4D4-6D71-4841-9C94-3DE7FCFB9230}">
                <p14:media r:link="rId7"/>
              </p:ext>
            </p:extLst>
          </p:nvPr>
        </p:nvPicPr>
        <p:blipFill>
          <a:blip r:embed="rId8"/>
          <a:stretch>
            <a:fillRect/>
          </a:stretch>
        </p:blipFill>
        <p:spPr>
          <a:xfrm>
            <a:off x="8028000" y="636444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51136" fill="hold"/>
                                        <p:tgtEl>
                                          <p:spTgt spid="3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370"/>
                </p:tgtEl>
              </p:cMediaNode>
            </p:audio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28040" y="6308640"/>
            <a:ext cx="507960" cy="360360"/>
          </a:xfrm>
          <a:prstGeom prst="rect">
            <a:avLst/>
          </a:prstGeom>
          <a:ln w="0">
            <a:noFill/>
          </a:ln>
        </p:spPr>
      </p:pic>
      <p:sp>
        <p:nvSpPr>
          <p:cNvPr id="476" name=""/>
          <p:cNvSpPr txBox="1"/>
          <p:nvPr/>
        </p:nvSpPr>
        <p:spPr>
          <a:xfrm>
            <a:off x="5580000" y="549360"/>
            <a:ext cx="230688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拓展运用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77" name="" descr="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0" y="6138720"/>
            <a:ext cx="665280" cy="71928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684360" y="2205000"/>
            <a:ext cx="7704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乒乓球比赛时，裁判用猜球在哪只手的方法来决定哪方先开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样的规则公平吗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" descr=""/>
          <p:cNvPicPr/>
          <p:nvPr/>
        </p:nvPicPr>
        <p:blipFill>
          <a:blip r:embed="rId3">
            <a:grayscl/>
          </a:blip>
          <a:stretch/>
        </p:blipFill>
        <p:spPr>
          <a:xfrm>
            <a:off x="6012000" y="3573360"/>
            <a:ext cx="2896920" cy="26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0" name="" descr=""/>
          <p:cNvPicPr/>
          <p:nvPr/>
        </p:nvPicPr>
        <p:blipFill>
          <a:blip r:embed="rId1"/>
          <a:stretch/>
        </p:blipFill>
        <p:spPr>
          <a:xfrm>
            <a:off x="6183360" y="4149720"/>
            <a:ext cx="2133720" cy="19620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28040" y="6308640"/>
            <a:ext cx="507960" cy="36036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755640" y="1989000"/>
            <a:ext cx="72738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袋中装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黄球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红球，从中任意摸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个球。小兰和小兵约定，摸出红球，小兵得分；摸出黄球，小兰得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个游戏公平吗？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5580000" y="549360"/>
            <a:ext cx="230688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拓展运用二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84" name="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0" y="6138720"/>
            <a:ext cx="665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28040" y="6308640"/>
            <a:ext cx="507960" cy="360360"/>
          </a:xfrm>
          <a:prstGeom prst="rect">
            <a:avLst/>
          </a:prstGeom>
          <a:ln w="0">
            <a:noFill/>
          </a:ln>
        </p:spPr>
      </p:pic>
      <p:sp>
        <p:nvSpPr>
          <p:cNvPr id="486" name=""/>
          <p:cNvSpPr/>
          <p:nvPr/>
        </p:nvSpPr>
        <p:spPr>
          <a:xfrm>
            <a:off x="826920" y="1989000"/>
            <a:ext cx="734544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甲、乙两人玩抽牌游戏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张牌上分别标有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，约定任抽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张，抽出的数小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甲胜；若抽出的数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乙胜。这样约定公平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如果让你选择，你愿意是甲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是乙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5651640" y="549360"/>
            <a:ext cx="230652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拓展运用三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88" name="" descr="">
            <a:hlinkClick r:id="" action="ppaction://hlinkshowjump?jump=lastslide"/>
          </p:cNvPr>
          <p:cNvPicPr/>
          <p:nvPr/>
        </p:nvPicPr>
        <p:blipFill>
          <a:blip r:embed="rId2"/>
          <a:stretch/>
        </p:blipFill>
        <p:spPr>
          <a:xfrm>
            <a:off x="0" y="6138720"/>
            <a:ext cx="665280" cy="71928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3"/>
          <a:stretch/>
        </p:blipFill>
        <p:spPr>
          <a:xfrm>
            <a:off x="6156360" y="4005360"/>
            <a:ext cx="2238480" cy="21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6156360" y="3789360"/>
            <a:ext cx="2346120" cy="2376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28040" y="6308640"/>
            <a:ext cx="507960" cy="36036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611280" y="1989000"/>
            <a:ext cx="770400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小明和小聪一起玩掷骰子游戏，规则如下：若骰子朝上一面的数字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小聪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；若骰子朝上一面的数字不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则小明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谁先得到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，谁就获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认为游戏公平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为什么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5724360" y="549360"/>
            <a:ext cx="230688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拓展运用四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94" name="" descr="">
            <a:hlinkClick r:id="" action="ppaction://hlinkshowjump?jump=lastslide"/>
          </p:cNvPr>
          <p:cNvPicPr/>
          <p:nvPr/>
        </p:nvPicPr>
        <p:blipFill>
          <a:blip r:embed="rId3"/>
          <a:stretch/>
        </p:blipFill>
        <p:spPr>
          <a:xfrm>
            <a:off x="0" y="6138720"/>
            <a:ext cx="665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476360" y="1790640"/>
            <a:ext cx="6264360" cy="3336120"/>
          </a:xfrm>
          <a:prstGeom prst="rect">
            <a:avLst/>
          </a:prstGeom>
          <a:gradFill rotWithShape="0">
            <a:gsLst>
              <a:gs pos="0">
                <a:srgbClr val="ccffcc"/>
              </a:gs>
              <a:gs pos="100000">
                <a:srgbClr val="5e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这节课好玩吗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你有什么收获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华文行楷"/>
                <a:ea typeface="华文行楷"/>
              </a:rPr>
              <a:t>受到了哪些启发 </a:t>
            </a:r>
            <a:r>
              <a:rPr b="0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华文行楷"/>
                <a:ea typeface="华文行楷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665280" cy="71928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3"/>
          <a:stretch/>
        </p:blipFill>
        <p:spPr>
          <a:xfrm>
            <a:off x="8478720" y="0"/>
            <a:ext cx="665280" cy="71928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4"/>
          <a:stretch/>
        </p:blipFill>
        <p:spPr>
          <a:xfrm>
            <a:off x="8478720" y="6138720"/>
            <a:ext cx="665280" cy="71928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5"/>
          <a:stretch/>
        </p:blipFill>
        <p:spPr>
          <a:xfrm>
            <a:off x="0" y="6138720"/>
            <a:ext cx="665280" cy="71928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6"/>
          <a:stretch/>
        </p:blipFill>
        <p:spPr>
          <a:xfrm>
            <a:off x="1908000" y="1773360"/>
            <a:ext cx="5239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28040" y="6308640"/>
            <a:ext cx="507960" cy="3603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68360" y="333360"/>
            <a:ext cx="84963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请用“一定”、“可能”、“不可能”来判断下列事件发生的可能性，并简要说明理由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023840" y="4255920"/>
            <a:ext cx="4843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方吃饭时用左手拿筷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045840" y="2117880"/>
            <a:ext cx="15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一    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048000" y="5157720"/>
            <a:ext cx="145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一   定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195240" y="3637080"/>
            <a:ext cx="12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不可能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118920" y="287640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可   能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118920" y="4397400"/>
            <a:ext cx="131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可   能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1023840" y="1989000"/>
            <a:ext cx="419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球每天都在转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1023840" y="2744640"/>
            <a:ext cx="419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天后下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023840" y="3500280"/>
            <a:ext cx="41943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太阳从西边升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23840" y="5013360"/>
            <a:ext cx="484344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小明的年龄比他爸爸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6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28040" y="6308640"/>
            <a:ext cx="507960" cy="3603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4067280" y="2122560"/>
            <a:ext cx="4535280" cy="367740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凡购物满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，可凭小票参加“五一幸运转盘”游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，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张小票限参加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祝大家好运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家家乐超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0" y="765000"/>
            <a:ext cx="396072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有奖销售活动说明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971640" y="765000"/>
            <a:ext cx="280980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幸运转盘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387" name="" descr=""/>
          <p:cNvPicPr/>
          <p:nvPr/>
        </p:nvPicPr>
        <p:blipFill>
          <a:blip r:embed="rId3"/>
          <a:stretch/>
        </p:blipFill>
        <p:spPr>
          <a:xfrm>
            <a:off x="395280" y="1700280"/>
            <a:ext cx="35164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28040" y="6308640"/>
            <a:ext cx="507960" cy="3603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5292720" y="836640"/>
            <a:ext cx="364968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参加一次游戏，一定能中奖吗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292720" y="2266920"/>
            <a:ext cx="336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转动转盘，会有几种可能的结果 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292720" y="3711600"/>
            <a:ext cx="3514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获得哪种奖品的可能性最大，哪种最小？为什么？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49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2182680" y="260280"/>
            <a:ext cx="1428840" cy="2108160"/>
          </a:xfrm>
          <a:prstGeom prst="rect">
            <a:avLst/>
          </a:prstGeom>
          <a:ln w="0">
            <a:noFill/>
          </a:ln>
        </p:spPr>
      </p:pic>
      <p:pic>
        <p:nvPicPr>
          <p:cNvPr id="394" name="" descr=""/>
          <p:cNvPicPr/>
          <p:nvPr/>
        </p:nvPicPr>
        <p:blipFill>
          <a:blip r:embed="rId3"/>
          <a:stretch/>
        </p:blipFill>
        <p:spPr>
          <a:xfrm>
            <a:off x="5560920" y="260280"/>
            <a:ext cx="1428840" cy="2103480"/>
          </a:xfrm>
          <a:prstGeom prst="rect">
            <a:avLst/>
          </a:prstGeom>
          <a:ln w="0">
            <a:noFill/>
          </a:ln>
        </p:spPr>
      </p:pic>
      <p:pic>
        <p:nvPicPr>
          <p:cNvPr id="395" name="" descr=""/>
          <p:cNvPicPr/>
          <p:nvPr/>
        </p:nvPicPr>
        <p:blipFill>
          <a:blip r:embed="rId4"/>
          <a:stretch/>
        </p:blipFill>
        <p:spPr>
          <a:xfrm>
            <a:off x="3871800" y="260280"/>
            <a:ext cx="1428840" cy="2097000"/>
          </a:xfrm>
          <a:prstGeom prst="rect">
            <a:avLst/>
          </a:prstGeom>
          <a:ln w="0">
            <a:noFill/>
          </a:ln>
        </p:spPr>
      </p:pic>
      <p:pic>
        <p:nvPicPr>
          <p:cNvPr id="396" name="" descr=""/>
          <p:cNvPicPr/>
          <p:nvPr/>
        </p:nvPicPr>
        <p:blipFill>
          <a:blip r:embed="rId5"/>
          <a:stretch/>
        </p:blipFill>
        <p:spPr>
          <a:xfrm>
            <a:off x="533520" y="260280"/>
            <a:ext cx="1388880" cy="20797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468360" y="3227400"/>
            <a:ext cx="842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从中任意抽出一张，抽出的牌有哪几种可能的结果？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68360" y="3838680"/>
            <a:ext cx="842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抽出黑桃的可能性与抽出方块的可能性哪一个大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468360" y="4451400"/>
            <a:ext cx="8424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抽出黑桃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与抽出方块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的可能性哪一个大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386000" y="5064120"/>
            <a:ext cx="5893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4. 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抽出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的可能性与抽出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600" spc="-1" strike="noStrike">
                <a:solidFill>
                  <a:srgbClr val="000000"/>
                </a:solidFill>
                <a:latin typeface="Times New Roman"/>
              </a:rPr>
              <a:t>的可能性哪个大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30960" y="5676840"/>
            <a:ext cx="2882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没有可能抽出方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755640" y="2133720"/>
            <a:ext cx="2016000" cy="790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议一议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03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528040" y="6308640"/>
            <a:ext cx="507960" cy="360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7"/>
          <a:stretch/>
        </p:blipFill>
        <p:spPr>
          <a:xfrm>
            <a:off x="7251840" y="333360"/>
            <a:ext cx="13525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28040" y="6308640"/>
            <a:ext cx="507960" cy="36036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 txBox="1"/>
          <p:nvPr/>
        </p:nvSpPr>
        <p:spPr>
          <a:xfrm>
            <a:off x="2411280" y="765000"/>
            <a:ext cx="489744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抽牌游戏结果统计表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07" name="" descr=""/>
          <p:cNvPicPr/>
          <p:nvPr/>
        </p:nvPicPr>
        <p:blipFill>
          <a:blip r:embed="rId3"/>
          <a:stretch/>
        </p:blipFill>
        <p:spPr>
          <a:xfrm>
            <a:off x="0" y="6138720"/>
            <a:ext cx="665280" cy="719280"/>
          </a:xfrm>
          <a:prstGeom prst="rect">
            <a:avLst/>
          </a:prstGeom>
          <a:ln w="0">
            <a:noFill/>
          </a:ln>
        </p:spPr>
      </p:pic>
      <p:pic>
        <p:nvPicPr>
          <p:cNvPr id="408" name="" descr=""/>
          <p:cNvPicPr/>
          <p:nvPr/>
        </p:nvPicPr>
        <p:blipFill>
          <a:blip r:embed="rId4"/>
          <a:stretch/>
        </p:blipFill>
        <p:spPr>
          <a:xfrm>
            <a:off x="611280" y="1628640"/>
            <a:ext cx="7848360" cy="4537080"/>
          </a:xfrm>
          <a:prstGeom prst="rect">
            <a:avLst/>
          </a:prstGeom>
          <a:ln w="0">
            <a:noFill/>
          </a:ln>
        </p:spPr>
      </p:pic>
      <p:grpSp>
        <p:nvGrpSpPr>
          <p:cNvPr id="409" name=""/>
          <p:cNvGrpSpPr/>
          <p:nvPr/>
        </p:nvGrpSpPr>
        <p:grpSpPr>
          <a:xfrm>
            <a:off x="2171880" y="2205000"/>
            <a:ext cx="384120" cy="2115360"/>
            <a:chOff x="2171880" y="2205000"/>
            <a:chExt cx="384120" cy="2115360"/>
          </a:xfrm>
        </p:grpSpPr>
        <p:sp>
          <p:nvSpPr>
            <p:cNvPr id="410" name=""/>
            <p:cNvSpPr/>
            <p:nvPr/>
          </p:nvSpPr>
          <p:spPr>
            <a:xfrm>
              <a:off x="219744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2171880" y="2708280"/>
              <a:ext cx="3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171880" y="3284640"/>
              <a:ext cx="3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171880" y="3860640"/>
              <a:ext cx="3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848880" y="4797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红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梅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8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528040" y="6308640"/>
            <a:ext cx="507960" cy="36036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468360" y="3645000"/>
            <a:ext cx="813600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个同学抽牌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次，由小组长负责记录好每次抽出的花色，进行数据汇总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抽牌结束后小组讨论，对照分析，得出你们组的实验结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39640" y="2997360"/>
            <a:ext cx="24498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方法提示</a:t>
            </a:r>
            <a:r>
              <a:rPr b="0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: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39640" y="692280"/>
            <a:ext cx="2449800" cy="647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游戏目的</a:t>
            </a:r>
            <a:r>
              <a:rPr b="0" lang="en-US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: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419" name=""/>
          <p:cNvSpPr/>
          <p:nvPr/>
        </p:nvSpPr>
        <p:spPr>
          <a:xfrm>
            <a:off x="3895560" y="1409760"/>
            <a:ext cx="1434960" cy="12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宋体"/>
              </a:rPr>
              <a:t>数量多，可能性大；数量少，可能性小。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进行验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0" dur="1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5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8528040" y="6308640"/>
            <a:ext cx="507960" cy="36036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 txBox="1"/>
          <p:nvPr/>
        </p:nvSpPr>
        <p:spPr>
          <a:xfrm>
            <a:off x="2411280" y="765000"/>
            <a:ext cx="4897440" cy="648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ff6600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抽牌游戏结果统计表</a:t>
            </a:r>
            <a:endParaRPr b="0" lang="en-US" sz="2400" spc="1" strike="noStrike">
              <a:ln w="19080">
                <a:solidFill>
                  <a:srgbClr val="ff6600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3"/>
          <a:stretch/>
        </p:blipFill>
        <p:spPr>
          <a:xfrm>
            <a:off x="0" y="6138720"/>
            <a:ext cx="665280" cy="719280"/>
          </a:xfrm>
          <a:prstGeom prst="rect">
            <a:avLst/>
          </a:prstGeom>
          <a:ln w="0">
            <a:noFill/>
          </a:ln>
        </p:spPr>
      </p:pic>
      <p:pic>
        <p:nvPicPr>
          <p:cNvPr id="423" name="" descr=""/>
          <p:cNvPicPr/>
          <p:nvPr/>
        </p:nvPicPr>
        <p:blipFill>
          <a:blip r:embed="rId4"/>
          <a:stretch/>
        </p:blipFill>
        <p:spPr>
          <a:xfrm>
            <a:off x="611280" y="1628640"/>
            <a:ext cx="7848360" cy="4537080"/>
          </a:xfrm>
          <a:prstGeom prst="rect">
            <a:avLst/>
          </a:prstGeom>
          <a:ln w="0">
            <a:noFill/>
          </a:ln>
        </p:spPr>
      </p:pic>
      <p:grpSp>
        <p:nvGrpSpPr>
          <p:cNvPr id="424" name=""/>
          <p:cNvGrpSpPr/>
          <p:nvPr/>
        </p:nvGrpSpPr>
        <p:grpSpPr>
          <a:xfrm>
            <a:off x="2171880" y="2205000"/>
            <a:ext cx="384120" cy="2115360"/>
            <a:chOff x="2171880" y="2205000"/>
            <a:chExt cx="384120" cy="2115360"/>
          </a:xfrm>
        </p:grpSpPr>
        <p:sp>
          <p:nvSpPr>
            <p:cNvPr id="425" name=""/>
            <p:cNvSpPr/>
            <p:nvPr/>
          </p:nvSpPr>
          <p:spPr>
            <a:xfrm>
              <a:off x="2197440" y="2205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2171880" y="2708280"/>
              <a:ext cx="3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171880" y="3284640"/>
              <a:ext cx="3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171880" y="3860640"/>
              <a:ext cx="384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7592760" y="2205000"/>
            <a:ext cx="485640" cy="2115360"/>
            <a:chOff x="7592760" y="2205000"/>
            <a:chExt cx="485640" cy="2115360"/>
          </a:xfrm>
        </p:grpSpPr>
        <p:sp>
          <p:nvSpPr>
            <p:cNvPr id="430" name=""/>
            <p:cNvSpPr/>
            <p:nvPr/>
          </p:nvSpPr>
          <p:spPr>
            <a:xfrm>
              <a:off x="7592760" y="2205000"/>
              <a:ext cx="48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69440" y="2781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69440" y="3284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69440" y="38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cc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3132000" y="2278080"/>
            <a:ext cx="1654200" cy="2014560"/>
            <a:chOff x="3132000" y="2278080"/>
            <a:chExt cx="1654200" cy="2014560"/>
          </a:xfrm>
        </p:grpSpPr>
        <p:grpSp>
          <p:nvGrpSpPr>
            <p:cNvPr id="435" name=""/>
            <p:cNvGrpSpPr/>
            <p:nvPr/>
          </p:nvGrpSpPr>
          <p:grpSpPr>
            <a:xfrm>
              <a:off x="3132000" y="4005360"/>
              <a:ext cx="287280" cy="287280"/>
              <a:chOff x="3132000" y="4005360"/>
              <a:chExt cx="287280" cy="287280"/>
            </a:xfrm>
          </p:grpSpPr>
          <p:sp>
            <p:nvSpPr>
              <p:cNvPr id="436" name=""/>
              <p:cNvSpPr/>
              <p:nvPr/>
            </p:nvSpPr>
            <p:spPr>
              <a:xfrm>
                <a:off x="3132000" y="4005360"/>
                <a:ext cx="28728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276360" y="4005360"/>
                <a:ext cx="0" cy="28728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38" name=""/>
            <p:cNvSpPr/>
            <p:nvPr/>
          </p:nvSpPr>
          <p:spPr>
            <a:xfrm>
              <a:off x="3563640" y="2278080"/>
              <a:ext cx="287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3708360" y="2278080"/>
              <a:ext cx="0" cy="2872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3708360" y="2421000"/>
              <a:ext cx="142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563640" y="2565360"/>
              <a:ext cx="28764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3635280" y="2420640"/>
              <a:ext cx="0" cy="1443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66920" y="2278080"/>
              <a:ext cx="2872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211640" y="2278080"/>
              <a:ext cx="0" cy="2872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211640" y="2421000"/>
              <a:ext cx="14256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066920" y="2565360"/>
              <a:ext cx="2872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 flipV="1">
              <a:off x="4138560" y="2420640"/>
              <a:ext cx="0" cy="1443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498920" y="2278080"/>
              <a:ext cx="2872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643280" y="2278080"/>
              <a:ext cx="0" cy="2872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643280" y="2421000"/>
              <a:ext cx="14292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498920" y="2565360"/>
              <a:ext cx="287280" cy="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V="1">
              <a:off x="4570200" y="2420640"/>
              <a:ext cx="0" cy="14436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276360" y="2854440"/>
              <a:ext cx="0" cy="287280"/>
            </a:xfrm>
            <a:prstGeom prst="line">
              <a:avLst/>
            </a:prstGeom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54" name=""/>
            <p:cNvGrpSpPr/>
            <p:nvPr/>
          </p:nvGrpSpPr>
          <p:grpSpPr>
            <a:xfrm>
              <a:off x="3132000" y="2278080"/>
              <a:ext cx="287280" cy="863640"/>
              <a:chOff x="3132000" y="2278080"/>
              <a:chExt cx="287280" cy="863640"/>
            </a:xfrm>
          </p:grpSpPr>
          <p:grpSp>
            <p:nvGrpSpPr>
              <p:cNvPr id="455" name=""/>
              <p:cNvGrpSpPr/>
              <p:nvPr/>
            </p:nvGrpSpPr>
            <p:grpSpPr>
              <a:xfrm>
                <a:off x="3132000" y="2278080"/>
                <a:ext cx="287280" cy="287280"/>
                <a:chOff x="3132000" y="2278080"/>
                <a:chExt cx="287280" cy="287280"/>
              </a:xfrm>
            </p:grpSpPr>
            <p:sp>
              <p:nvSpPr>
                <p:cNvPr id="456" name=""/>
                <p:cNvSpPr/>
                <p:nvPr/>
              </p:nvSpPr>
              <p:spPr>
                <a:xfrm>
                  <a:off x="3132000" y="2278080"/>
                  <a:ext cx="2872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3276360" y="2278080"/>
                  <a:ext cx="0" cy="28728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8" name=""/>
                <p:cNvSpPr/>
                <p:nvPr/>
              </p:nvSpPr>
              <p:spPr>
                <a:xfrm>
                  <a:off x="3276360" y="2421000"/>
                  <a:ext cx="14292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59" name=""/>
                <p:cNvSpPr/>
                <p:nvPr/>
              </p:nvSpPr>
              <p:spPr>
                <a:xfrm>
                  <a:off x="3132000" y="2565360"/>
                  <a:ext cx="287280" cy="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 flipV="1">
                  <a:off x="3203280" y="2420640"/>
                  <a:ext cx="0" cy="144360"/>
                </a:xfrm>
                <a:prstGeom prst="line">
                  <a:avLst/>
                </a:prstGeom>
                <a:ln w="28440">
                  <a:solidFill>
                    <a:srgbClr val="cc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1" name=""/>
              <p:cNvSpPr/>
              <p:nvPr/>
            </p:nvSpPr>
            <p:spPr>
              <a:xfrm>
                <a:off x="3132000" y="2854440"/>
                <a:ext cx="28728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3276360" y="2997360"/>
                <a:ext cx="1429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132000" y="3141720"/>
                <a:ext cx="28728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V="1">
                <a:off x="3203280" y="2997000"/>
                <a:ext cx="0" cy="14436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3635280" y="2854440"/>
              <a:ext cx="287280" cy="287280"/>
              <a:chOff x="3635280" y="2854440"/>
              <a:chExt cx="287280" cy="287280"/>
            </a:xfrm>
          </p:grpSpPr>
          <p:sp>
            <p:nvSpPr>
              <p:cNvPr id="466" name=""/>
              <p:cNvSpPr/>
              <p:nvPr/>
            </p:nvSpPr>
            <p:spPr>
              <a:xfrm>
                <a:off x="3635280" y="2854440"/>
                <a:ext cx="28728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3779640" y="2854440"/>
                <a:ext cx="0" cy="28728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3779640" y="2997360"/>
                <a:ext cx="142920" cy="0"/>
              </a:xfrm>
              <a:prstGeom prst="line">
                <a:avLst/>
              </a:prstGeom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69" name=""/>
          <p:cNvSpPr/>
          <p:nvPr/>
        </p:nvSpPr>
        <p:spPr>
          <a:xfrm>
            <a:off x="848880" y="4797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红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梅花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328880" y="480384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最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0000"/>
                </a:solidFill>
                <a:latin typeface="Times New Roman"/>
              </a:rPr>
              <a:t>最少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2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2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684360" y="836640"/>
            <a:ext cx="77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  <a:ea typeface="黑体"/>
              </a:rPr>
              <a:t>历史上科学家抛硬币实验结果统计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7848360" cy="4465440"/>
          </a:xfrm>
          <a:prstGeom prst="rect">
            <a:avLst/>
          </a:prstGeom>
          <a:ln w="0">
            <a:noFill/>
          </a:ln>
        </p:spPr>
      </p:pic>
      <p:pic>
        <p:nvPicPr>
          <p:cNvPr id="473" name="" descr="">
            <a:hlinkClick r:id="" action="ppaction://hlinkshowjump?jump=nextslide"/>
          </p:cNvPr>
          <p:cNvPicPr/>
          <p:nvPr/>
        </p:nvPicPr>
        <p:blipFill>
          <a:blip r:embed="rId3"/>
          <a:stretch/>
        </p:blipFill>
        <p:spPr>
          <a:xfrm>
            <a:off x="8528040" y="6308640"/>
            <a:ext cx="507960" cy="36036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>
            <a:hlinkClick r:id="" action="ppaction://hlinkshowjump?jump=lastslide"/>
          </p:cNvPr>
          <p:cNvPicPr/>
          <p:nvPr/>
        </p:nvPicPr>
        <p:blipFill>
          <a:blip r:embed="rId4"/>
          <a:stretch/>
        </p:blipFill>
        <p:spPr>
          <a:xfrm>
            <a:off x="0" y="6138720"/>
            <a:ext cx="665280" cy="7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9T02:03:43Z</dcterms:created>
  <dc:creator>dell</dc:creator>
  <dc:description/>
  <cp:keywords/>
  <dc:language>en-US</dc:language>
  <cp:lastModifiedBy>微软用户</cp:lastModifiedBy>
  <cp:lastPrinted>1899-12-30T00:00:00Z</cp:lastPrinted>
  <dcterms:modified xsi:type="dcterms:W3CDTF">2013-11-24T12:23:20Z</dcterms:modified>
  <cp:revision>109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249</vt:lpwstr>
  </property>
</Properties>
</file>